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EBF-E4C1-40B1-892A-20A87F08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6B9-4051-4A51-9F62-01E4E65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FF-AC7F-44F6-8E20-E9DBFBB2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202-F97C-40D1-B8AA-BC46FAB0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D6C-006B-4892-B9C4-4DA81C2F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C0D-6565-4F38-AF65-0FBE0BE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63E-7A2B-4E8D-80AF-2A764B51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ECA-DE0D-4EF1-AB79-3F1BBAD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393-9FB8-4B4B-A4F2-8EC18A69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17D-EFCD-4036-8F41-DDE72FCF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53C6-700C-4C46-92B3-78E7696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10A-2744-46F7-A384-96879D64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AEB-860A-470B-865E-9EB7101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1C49-D509-4FA4-9CB1-C92E395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139B-58AA-4904-A479-935A9B44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C220-F530-4093-A859-9B4B02F4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5AB-6309-45CA-9FB4-072D2A70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7A0-E422-45B5-BE65-B0CA9803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1B8-3CC3-461F-B10F-0B08A446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75E-69CC-49EE-8517-B152C4C8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B07-0CFF-451C-90F6-7377DA2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1EF-BF2E-49FF-9724-8506E13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9E0-6C89-4106-B4A7-55E9EEF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4FA-D742-4731-855B-98E9B86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BDB0-D61D-4413-82D8-8662769C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116-7F15-48F8-897E-C45CA3BC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Exploring the World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of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tutorial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utorials are computer-based instructions that teach skills or procedur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utorial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by: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es to train their 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s and colleges to teach or review subject m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191120" y="2131920"/>
            <a:ext cx="4647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simulation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mulations are computer-based models of real-life situations.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imul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am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62520" y="2090880"/>
            <a:ext cx="4952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Pag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9880" y="2104920"/>
            <a:ext cx="5177880" cy="3990240"/>
            <a:chOff x="3809880" y="2104920"/>
            <a:chExt cx="5177880" cy="399024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3809880" y="2104920"/>
              <a:ext cx="5177880" cy="39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4614480" y="2345760"/>
              <a:ext cx="2088360" cy="169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Development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ing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inting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otography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gital pho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udio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i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cording sound and musi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road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ovies and Televis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m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deo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gital 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Technolog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puters have become smaller, cheaper, and more powerfu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ktop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ptop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digital assistants (PDA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76920" y="2133720"/>
            <a:ext cx="39621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The Value of Multimedia in Society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has become a valuable resource for education, business, and leisure and recre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s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learn in new and stimulating 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sines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hare resources, deliver information, train employees, and advertise goods an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eisure and Recre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lay video games, surf the Internet, and plan leisur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multimedia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is the integration of text, still and moving images, and sound by means of computer technology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ord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ords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733920" y="2087640"/>
            <a:ext cx="518148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Image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047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mages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 or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114800" y="2057400"/>
            <a:ext cx="4800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ound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ound, also called audio,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-over or nar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191120" y="2114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ideo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9880" y="2030400"/>
            <a:ext cx="464832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Produc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at are the types of multimedia productions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presentation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sentations are sequences of slides, also called pages or screens, that usually incorporate text, sound, graphics, and anim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esent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sed by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es to present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s or students in classro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0:25:53Z</dcterms:created>
  <dc:creator>LJ</dc:creator>
  <dc:description/>
  <dc:language>en-US</dc:language>
  <cp:lastModifiedBy>GLENCOE</cp:lastModifiedBy>
  <dcterms:modified xsi:type="dcterms:W3CDTF">2003-01-03T23:34:16Z</dcterms:modified>
  <cp:revision>29</cp:revision>
  <dc:subject/>
  <dc:title>Chapter 1 Exploring the World of Multimedia</dc:title>
</cp:coreProperties>
</file>